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6E0-BFC5-4BD1-91A5-3C13DCB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EDF-B7F4-4397-8E0F-52B3C44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40D-C157-4D93-AF36-0C885CB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0ED-1350-440F-8691-FC126D82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070-7899-436F-AA88-DBF0609B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622-00E6-4A50-B4F4-CD4D53C7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0B0F-5325-4660-80D0-3A85354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6A5-6D3A-4C4A-8946-A223C41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2AFD-B848-4235-8B12-78C4EB3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9AF-B641-49ED-A92B-5E397FE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6460-2431-48C1-BF4F-D2937F7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78C-9E68-4165-89EA-AB990CD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60A-25D1-4DC1-B7E1-7E33EC2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1990-7CD2-434D-90F6-D569B43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6555-20ED-4D70-8C77-6FE1273A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CB1-9D6D-48C4-8EBB-08CF02A7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E23A-4867-47C2-8A7E-4D65A3C0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36F-4383-4E69-B75D-19ABE0D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86E-F93D-4712-959A-3DFA2CA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7B8-3E27-4FB2-AAE8-0058EB3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2AA-2F09-4468-B1F9-B82ED875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62B-6935-4F96-80DD-214042D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7BD-BB1F-44BB-87D3-4A943E2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DEE-BA87-4E4E-8928-629EFD2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C2C-A39F-4F2F-B38B-3418E70B9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224-AEC4-412A-BD6D-535D9DD88D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Times New Roman"/>
              </a:rPr>
              <a:t>15.3:  The Cold War at Hom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7010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A New Red Sca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ear of Communism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pies sweeps Ame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McCarthy-Brown v Board.asx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cCarthy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McCarran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KA: Internal Security A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llegal to establish a totalitarian government in the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sts needed to publish their records and register w/US 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Pat McCarran"/>
          <p:cNvPicPr/>
          <p:nvPr/>
        </p:nvPicPr>
        <p:blipFill>
          <a:blip r:embed="rId1"/>
          <a:stretch/>
        </p:blipFill>
        <p:spPr>
          <a:xfrm>
            <a:off x="4876920" y="1600200"/>
            <a:ext cx="375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.  Communist Influe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viet Union, Eastern Europe, China, North Korea ---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common denomin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 Communists in the U.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-52812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0,000 in U.S. belonged to the Communist Party = Americans fear of sp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-52812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ndful of incidents blown out of propor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 Truman criticized…“soft” on commun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35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hblock6"/>
          <p:cNvPicPr/>
          <p:nvPr/>
        </p:nvPicPr>
        <p:blipFill>
          <a:blip r:embed="rId1"/>
          <a:stretch/>
        </p:blipFill>
        <p:spPr>
          <a:xfrm>
            <a:off x="1897200" y="63360"/>
            <a:ext cx="53496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hblock2"/>
          <p:cNvPicPr/>
          <p:nvPr/>
        </p:nvPicPr>
        <p:blipFill>
          <a:blip r:embed="rId1"/>
          <a:stretch/>
        </p:blipFill>
        <p:spPr>
          <a:xfrm>
            <a:off x="1766880" y="63360"/>
            <a:ext cx="56116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ROS_DI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Loyalty Review Pro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 federal employees are screened to ensure they are “loyal” to the U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BI investigated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ny qu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ver had evidence; “suspiciou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38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.  House Committee on Un-American Activities (HUAC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 Committee created to search out disloyalty to the U.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stigated Hollywood film indu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llywood Ten: “unfriendly”witnes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lacklis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 Soviet Union films before and after WWI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llywood T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The Hollywood Ten"/>
          <p:cNvPicPr/>
          <p:nvPr/>
        </p:nvPicPr>
        <p:blipFill>
          <a:blip r:embed="rId1"/>
          <a:stretch/>
        </p:blipFill>
        <p:spPr>
          <a:xfrm>
            <a:off x="4869000" y="1676520"/>
            <a:ext cx="427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s03380u"/>
          <p:cNvPicPr/>
          <p:nvPr/>
        </p:nvPicPr>
        <p:blipFill>
          <a:blip r:embed="rId1"/>
          <a:stretch/>
        </p:blipFill>
        <p:spPr>
          <a:xfrm>
            <a:off x="2138400" y="63360"/>
            <a:ext cx="4869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Spy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Alger Hi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cussed of spying for Soviet’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victed of perjury; sent to j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rsued by congressman Richard Nix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hisshuac8-5"/>
          <p:cNvPicPr/>
          <p:nvPr/>
        </p:nvPicPr>
        <p:blipFill>
          <a:blip r:embed="rId1"/>
          <a:stretch/>
        </p:blipFill>
        <p:spPr>
          <a:xfrm>
            <a:off x="5029200" y="1676520"/>
            <a:ext cx="3333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Spy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Ethel &amp; Julius Rosenber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mbers of American Communist Pa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victed of giving info to SU re: atomic bom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ecuted by electroc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10" descr="200px-Julius_and_Ethel_Rosenberg_NYWTS"/>
          <p:cNvPicPr/>
          <p:nvPr/>
        </p:nvPicPr>
        <p:blipFill>
          <a:blip r:embed="rId1"/>
          <a:stretch/>
        </p:blipFill>
        <p:spPr>
          <a:xfrm>
            <a:off x="4495680" y="1862280"/>
            <a:ext cx="4267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Project Veno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946 US cracked SU spy co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ssages between Moscow and US read; &gt; 3,000 mess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confirmation spying existe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vealed in 199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I.  McCarthy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Senator Joseph McCarthy “Witch Hunt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McCarthyis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Unfair tactic of accusing people of disloyalty without providing evid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Rep. did not stop him thinking it would help win 1952 presidential el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 Losses credibility when he makes accusations against U.S. Arm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Joseph McCarthy"/>
          <p:cNvPicPr/>
          <p:nvPr/>
        </p:nvPicPr>
        <p:blipFill>
          <a:blip r:embed="rId1"/>
          <a:stretch/>
        </p:blipFill>
        <p:spPr>
          <a:xfrm>
            <a:off x="1066680" y="3657600"/>
            <a:ext cx="33530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9T20:53:34Z</dcterms:modified>
  <cp:revision>18</cp:revision>
  <dc:subject/>
  <dc:title>PowerPoint Presentation</dc:title>
</cp:coreProperties>
</file>